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18B1-CD68-4679-84E5-C0AD4B98D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DBEC-B0E0-439E-8E57-05994EA96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AE22-F2D3-4C80-8EFE-3BDA1B907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0769-8E42-49CF-8856-E1238F020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9A50-873A-45C0-9124-EED0719A3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F904-7A0D-4EE8-9423-F597E786E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971F-A017-4E8A-9CB2-5DC400654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CAA0-4BB6-42D4-82A8-786709AF8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6B2D-7FC9-4CA5-8A99-8E10B8007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DDE6-427A-46CA-9854-4E115F234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AFBD-AF0A-456E-9DD6-EB3A61CCF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A001-014A-4D42-8632-FFCFA9B23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C8994-015C-489C-8CC7-6E942EC1A3F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Михаил Юрьевич Лермонтов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814-184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8" descr="C:\Documents and Settings\Райдама\Рабочий стол\Lermontov.jpg"/>
          <p:cNvPicPr/>
          <p:nvPr/>
        </p:nvPicPr>
        <p:blipFill>
          <a:blip r:embed="rId1"/>
          <a:stretch/>
        </p:blipFill>
        <p:spPr>
          <a:xfrm>
            <a:off x="5083200" y="1981080"/>
            <a:ext cx="2940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Композиция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кспозиция – вступительная часть произведения, в котором нет развития основного действ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вязка – начало действ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пизоды (развитие действия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ульминация – самый волнующий момент произвед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вязка-конец действ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пилог – заключительная часть произведения, знакомящая с дальнейшей судьбой герое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</a:rPr>
              <a:t>Самостоятельная работа учащихся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044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</a:rPr>
              <a:t>Подведение итогов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</a:rPr>
              <a:t>(карта успеха)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044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71388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V.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омашнее  задание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еречитаем балладу в соответствии с новым ее  пониманием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Нарисовать рисунки к балладе М. Ю. Лермонтова «Три пальмы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0040" y="5285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Mistral"/>
                <a:ea typeface="Gautami"/>
              </a:rPr>
              <a:t>Михаил Юрьевич Лермонтов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75" name="Picture 8" descr="C:\Documents and Settings\Райдама\Рабочий стол\Lermontov.jpg"/>
          <p:cNvPicPr/>
          <p:nvPr/>
        </p:nvPicPr>
        <p:blipFill>
          <a:blip r:embed="rId1"/>
          <a:stretch/>
        </p:blipFill>
        <p:spPr>
          <a:xfrm>
            <a:off x="3000240" y="1000080"/>
            <a:ext cx="2940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3" dur="2000" fill="hold"/>
                                        <p:tgtEl>
                                          <p:spTgt spid="75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2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37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8700"/>
                            </p:stCondLst>
                            <p:childTnLst>
                              <p:par>
                                <p:cTn id="229" nodeType="afterEffect" fill="hold" presetClass="exit" presetID="3" presetSubtype="10">
                                  <p:stCondLst>
                                    <p:cond delay="3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0" dur="14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13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400"/>
                            </p:stCondLst>
                            <p:childTnLst>
                              <p:par>
                                <p:cTn id="233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4" dur="1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3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81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Times New Roman"/>
              </a:rPr>
              <a:t>Спасибо за урок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8524440" y="2143080"/>
            <a:ext cx="47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«Три пальмы»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сточное сказание – это рассказ исторического и легендарного характера на Восток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0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Баллада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южетное стихотворение на легендарную или сказочную тем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Аравийская пустыня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357120" y="2000160"/>
            <a:ext cx="3810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АРАБЫ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арис – по-арабски: всадни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КАРАВАН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раван –группа вьючных животных (верблюдов, ослов, редко лошадей), перевозящих грузы и людей (главным образом в пустынных районах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ОАЗИС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азис – расположенный около естественного водоёма островок раститель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Баллада М.Ю.Лермонтова «Три пальмы»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2643120" y="2071800"/>
            <a:ext cx="3810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Баллада – сюжетное стихотворение.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южет-развитие действия,ход событий в произведен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вязка, кульминация, развязк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6T07:25:27Z</dcterms:created>
  <dc:creator>raidama_company</dc:creator>
  <dc:description/>
  <dc:language>en-US</dc:language>
  <cp:lastModifiedBy>Эксперт</cp:lastModifiedBy>
  <dcterms:modified xsi:type="dcterms:W3CDTF">2013-01-27T17:13:15Z</dcterms:modified>
  <cp:revision>15</cp:revision>
  <dc:subject/>
  <dc:title>Михаил Юрьевич Лермонтов</dc:title>
</cp:coreProperties>
</file>